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BC39-B9F3-4F79-B77F-8603A5BC9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8A72-E7D2-4C02-802D-E4AFA5197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71F1-AA8A-4FBA-98DF-444E2D962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F1A2-D56B-47DA-BCE7-D0227E877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6F38-6F18-423F-93AD-9D9D477C35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1DF22-3FEE-436A-BEF4-798D77D15A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3910-5B23-4916-BC1E-41024A2F31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AD9A4-DF9F-4FE5-8D9C-F0C1974A98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1562-D16A-4FBF-9F00-94A07C35F6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23960" y="9144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E504-7AFD-494E-8A96-39BFE585CF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BA02-5BC2-4816-BF98-032B637E5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D1AF-3CF9-4DDB-A61B-A221167C4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CD57-4E20-4757-B361-D29FE1AE9C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E8D9-6E80-42A1-A05C-8BF89A4A56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26DF7-4D93-4958-8E99-F64882DBD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76B0-1165-4B9D-9624-A4A5A536B2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F18F-544E-41FA-8DBF-75EC3BF72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67D7-326C-4ED3-B841-847FC0656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F44F-2AC6-481A-898D-BF88D6F76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8BFA-0CCA-4475-90E2-7DC46BDE8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3960" y="9144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156F-557E-42B0-BFA4-57CFE169F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F258-30DD-4766-954E-E9041EF49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D114-0F65-4D6E-972B-BB85EFD97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E9B9-988C-4843-B081-8D3BCA1F0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8680" y="624852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50A9-682A-40DC-A497-6E32A679E7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86120" y="6248520"/>
            <a:ext cx="311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DA7-7BD6-482F-9AAB-AAE5CACF09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hornik@bus.ucf.edu" TargetMode="External"/><Relationship Id="rId3" Type="http://schemas.openxmlformats.org/officeDocument/2006/relationships/hyperlink" Target="http://acg6415.wikispaces.com/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kipwhite.com/" TargetMode="External"/><Relationship Id="rId3" Type="http://schemas.openxmlformats.org/officeDocument/2006/relationships/hyperlink" Target="http://yourdon.com/strucanalysis/wiki/index.php?title=Introduction" TargetMode="External"/><Relationship Id="rId4" Type="http://schemas.openxmlformats.org/officeDocument/2006/relationships/hyperlink" Target="http://www.gliffy.com/" TargetMode="External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095880" cy="34034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b">
            <a:noAutofit/>
          </a:bodyPr>
          <a:p>
            <a:pPr marL="3960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64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82280" y="4076640"/>
            <a:ext cx="586116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9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low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L and XBRL-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9000"/>
          </a:bodyPr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072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23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072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Pages to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396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AD Wiki 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January 19th (next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38354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cg641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Tuesday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3:00-4:30;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: BA1 4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4th 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ystems Analysis and Design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and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lif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Data Models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2 (XBRL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 Model (Group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6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(Wiki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743200"/>
            <a:ext cx="3835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kely you’re group will do them in class, and we will 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ornik</dc:creator>
  <dc:description/>
  <dc:language>en-US</dc:language>
  <cp:lastModifiedBy/>
  <cp:revision>0</cp:revision>
  <dc:subject/>
  <dc:title>ACG 5405 Intro</dc:title>
</cp:coreProperties>
</file>